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76363-89C7-4D48-9AAD-EDAB117065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E5619-50CA-4881-9B9A-B76890D3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C7735-E4DF-4E2C-A308-35E7AE65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8D869-1AB5-4103-8C24-763495CBC5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74878-8CE0-46B3-A01F-F87D7701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3DD08-3341-4FD7-8561-44C99188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C7DDC-B7DE-4A2F-8786-A63A7ADD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15647-77A3-47EE-BDD0-DD0201554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32C76-05B8-4366-9542-335C49EC0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3C9F3-8CF6-4528-88EB-F5C85C9E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53E23-0BC2-41E0-86D2-BD0E415E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938C9-CC43-4011-A62A-15A6B2B4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39D5-16A6-41B1-AD2A-E8B486DAA8B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三十一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人工合成抗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用药注意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过敏者、有精神病或癫痫病史者、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人群、妊娠期和哺乳期妇女、老年人、运动员和剧烈体力劳动者等禁用；肝肾功能减退、糖尿病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避免阳光和紫外线照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宜与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抗心律失常药、延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间期的药物如西沙比利、红霉素、三环类抗抑郁药合用；慎与茶碱类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SA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与抗酸药、含多价阳离子的药物同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的氟喹诺酮类药物的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诺氟沙星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orfloxac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%~4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5~5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形肾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如大肠埃希菌、志贺菌、肠杆菌科、弯曲菌、沙门菌和奈瑟菌作用强大，对大多数厌氧菌、支原体、衣原体、嗜肺军团菌、分支杆菌、布鲁菌属无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所致的胃肠道、泌尿道感染，也可用于治疗皮肤和眼部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环丙沙星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iprofloxac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9%~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体内分布广泛，在肺、痰液、泌尿生殖道、胆道、前列腺、水疱液浓度较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均有作用，本类中体外抗菌活性最强，对铜绿假单胞菌、流感嗜血杆菌、肠球菌、肺炎链球菌、金黄色葡萄球菌、淋病奈瑟菌的抗菌活性高于本来多数药物。对多属厌氧菌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的呼吸道、泌尿生殖道、消化道、骨与关节、皮肤软组织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氧氟沙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ofloxa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型由尿排出，胆汁中浓度为血液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留了环丙沙星的抗菌特点和良好的抗耐药菌特性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尚对结核分枝杆菌、沙眼衣原体和部分厌氧菌有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所致的呼吸道、泌尿生殖道、胆道、皮肤软组织和盆腔感染；也可作为二线药物与其他抗结核药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左氧氟沙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levofloxa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接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~7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原形由尿排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是氧氟沙星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对表皮葡萄球菌、链球菌、肠球菌、厌氧菌、支原体、衣原体的体外抗菌作用明显强于环丙沙星，对铜绿假单胞菌的抗菌活性低于环丙沙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敏感菌所致的各种急慢性感染、难治性感染，也用于铜绿假单胞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发生率较少且较轻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洛美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表皮葡萄球菌、链球菌和肠球菌的抗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菌活性与氧氟沙星相似，对多数厌氧菌的抗菌活性低于氧氟沙星。可使裸鼠皮肤发生癌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司帕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、厌氧菌、结核分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杆菌、衣原体和支原体的抗菌活性优于环丙和氧氟沙星；对军团菌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菌活性与氧氟沙星相近。易产生光敏反应、心脏毒性和中枢毒性，应严格控制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莫西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厌氧菌、结核分枝杆菌、衣原体和支原体具有很强的抗菌活性，强于环丙、氧氟、左氧氟和司帕沙星。不良反应发生率低，未见严重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其他氟喹诺酮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药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对氨基苯磺酰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衍生物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br>
              <a:rPr sz="2000"/>
            </a:b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易吸收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短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I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难吸收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SP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fe230c"/>
                </a:solidFill>
                <a:latin typeface="Times New Roman"/>
                <a:ea typeface="宋体"/>
              </a:rPr>
              <a:t>外用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-N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磺胺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易吸收类体内分布广泛，血浆蛋白结合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5%~9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主要在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乙酰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灭活，也与葡糖醛酸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以原形药、乙酰化物、葡糖醛酸结合物三种形式肾排。磺胺药及其乙酰化物在碱性尿液中溶解度高，在酸性尿液中易结晶析出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乙酰化物溶解度低于原型药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难吸收类必须在肠腔内水解，使对位氨基游离后才能发挥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良好的抗菌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沙眼衣原体、疟原虫、卡氏肺孢子虫和弓形虫滋养体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支原体、立克次体和螺旋体无效，甚至可促进立克次体生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米隆和磺胺嘧啶银尚对铜绿假单胞菌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菌谱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药结构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BA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苯甲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似，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竞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二氢蝶酸合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二氢叶酸不能合成，从而影响核酸和蛋白质的合成，抑制细菌的生长繁殖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作用机制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0" t="0" r="0" b="6274"/>
          <a:stretch/>
        </p:blipFill>
        <p:spPr>
          <a:xfrm>
            <a:off x="843120" y="2852640"/>
            <a:ext cx="7905600" cy="3384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560" y="1371240"/>
            <a:ext cx="77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掌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氟喹诺酮类药物、磺胺类药物、甲氧苄啶和硝基咪唑类药物的抗菌作用、临床应用和主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宋体"/>
              </a:rPr>
              <a:t>熟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的氟喹诺酮类、磺胺类、硝基咪唑类药物的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2C59-A19D-4A3F-A49D-C523A735D06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流行性脑脊髓膜炎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较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5%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易透过血脑屏障，脑脊液浓度可达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首选预防流行性脑脊髓膜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国内也</a:t>
            </a:r>
            <a:r>
              <a:rPr b="1" lang="zh-CN" sz="2400" spc="-1" strike="noStrike">
                <a:solidFill>
                  <a:srgbClr val="fe230c"/>
                </a:solidFill>
                <a:latin typeface="Times New Roman"/>
                <a:ea typeface="宋体"/>
              </a:rPr>
              <a:t>首选治疗普通型流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泌尿、消化、呼吸系统感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选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常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溃疡性结肠炎、强直性脊柱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选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柳氮磺吡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在肠道分解成磺胺吡啶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水杨酸盐；前者抗菌，后者抗炎和抗免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.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烧伤或大面积创伤后的创面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不受脓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铜绿假单胞菌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br>
              <a:rPr sz="20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5.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沙眼、角膜炎和结膜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-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溶液呈中性，无刺激性，穿透力强，适于眼科感染性疾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泌尿系统损害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产生结晶尿、血尿、尿痛和尿闭等症状。服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适当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增加饮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并同服等量</a:t>
            </a:r>
            <a:r>
              <a:rPr b="1" lang="zh-CN" sz="2400" spc="-1" strike="noStrike">
                <a:solidFill>
                  <a:srgbClr val="fe230c"/>
                </a:solidFill>
                <a:latin typeface="Times New Roman"/>
                <a:ea typeface="宋体"/>
              </a:rPr>
              <a:t>碳酸氢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碱化尿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服药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定期检查尿液。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过敏反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药热和皮疹多见，偶见多形性红斑、剥脱性皮炎，严重者可致死。本类药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交叉过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有过敏史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血液系统反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长期用药可抑制骨髓造血功能，导致白细胞减少症、血小板减少症甚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再生障碍性贫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用药期间定期检查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.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神经系统反应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少数患者出现头晕、头痛、萎靡和失眠等症状，用药期间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避免高空作业和驾驶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5.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其他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口服引起恶心、呕吐、上腹部不适和食欲不振；餐后服或同服碳酸氢钠可减轻反应。可致肝损害甚至急性重型肝炎，肝功能受损者避免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一、甲氧苄啶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rimethoprim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二氢叶酸还原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磺胺甲噁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相似，属抑菌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强数十倍，单独应用极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与磺胺药或某些抗生素合用，有增效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其他合成抗菌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: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比例制成，二者主要药动学参数相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可双重阻断机制，协同抑制四氢叶酸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时抗菌活性增加数倍至数十倍，甚至呈现杀菌作用，抗菌谱扩大，耐药菌减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复方磺胺甲噁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208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 marL="1544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肠埃希菌、变形杆菌和克雷伯菌引起的泌尿道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肺炎链球菌、流感嗜血杆菌及大肠埃希菌引起的上呼吸道感染或支气管炎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霍乱弧菌引起的霍乱；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寒沙门菌引起的伤寒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志贺菌属引起的肠道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卡氏肺孢子虫肺炎、诺卡菌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复方磺胺甲噁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呋喃妥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trofuranto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多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抑菌或杀菌作用，耐药性形成缓慢，与其他类抗菌药之间无交叉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大肠埃希菌、肠球菌和葡萄球菌引起的泌尿道感染。尿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抗菌作用最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呕吐及腹泻；偶见皮疹、药热等过敏反应。大剂量或长时间使用引起头痛、头晕和嗜睡等；也可引起周围神经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硝基呋喃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755280" y="1341360"/>
            <a:ext cx="7777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不易吸收，主要在肠道发挥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呋喃妥因相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肠炎、痢疾、霍乱等肠道感染性疾病，尚可治疗胃、十二指肠溃疡。栓剂可用于治疗阴道滴虫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同呋喃妥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呋喃唑酮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furazolidon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甲硝唑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metronidazole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厌氧菌，对脆弱类杆菌尤为敏感。对滴虫、阿米巴滋养体、破伤风梭菌具有很强的杀灭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分子中的硝基在细胞内被还原成氨基，从而抑制病原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厌氧菌感染，对幽门螺杆菌感染及耐药艰难梭菌所致的假膜性肠炎有特殊疗效，亦是治疗阿米巴病、滴虫病和破伤风的首选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和停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内禁用含乙醇饮料，并减少钠盐摄入。可引起胃肠反应、过敏反应、外周神经炎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硝基咪唑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076960" cy="4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内容提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92360" y="1557000"/>
            <a:ext cx="6983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合成类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硝基呋喃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硝基咪唑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唑烷酮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利奈唑胺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linezoli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范围几乎覆盖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全部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菌，对常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有强大抗菌活性，对耐药菌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S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S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等有高度抗菌活性，对部分厌氧菌作用较甲硝唑强，对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及衣原体、支原体、军团菌等不敏感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细菌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结合，抑制细菌蛋白质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唑烷酮类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利奈唑胺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linezoli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耐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感染，如耐万古霉素肠球菌感染，耐药肺炎链球菌、耐药金葡菌、耐药表葡菌等引起的医院获得性肺炎，社区获得性肺炎及骨髓、皮肤软组织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腹泻、恶心、头痛、口腔念珠菌病、阴道念珠菌病、味觉改变、肝功能异常等，久用可能引起视神经和外周神经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唑烷酮类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ECC0-F293-4F1F-9E52-3B3EF6EA04B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喹诺酮类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分类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一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萘啶酸  现已很少使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二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吡哌酸  仅限于治疗泌尿道和肠道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三代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  常用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四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新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 喹诺酮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4-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喹诺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基本结构的合成类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喹诺酮类药物的基本化学结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rcRect l="0" t="0" r="0" b="24181"/>
          <a:stretch/>
        </p:blipFill>
        <p:spPr>
          <a:xfrm>
            <a:off x="1547640" y="2060640"/>
            <a:ext cx="6624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DA55-4CEE-4CB7-8A15-E9179E4782A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77965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分类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一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萘啶酸  现已很少使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二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吡哌酸  仅限于治疗泌尿道和肠道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三代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  常用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四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新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8DA1-6E32-4CD2-AB14-AD3D34F75A3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343160"/>
            <a:ext cx="829944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通过抑制细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回旋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干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而产生杀灭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抑制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拓扑异构酶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干扰细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而发挥杀灭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研究表明，本类药物的强大杀菌作用还与引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错误复制和促使细菌自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636480" y="1001880"/>
            <a:ext cx="7777440" cy="55227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2124000" y="6021360"/>
            <a:ext cx="10796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氟喹酮类药物的共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抗菌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氟喹诺酮属广谱杀菌药，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结核分枝杆菌、军团菌、厌氧菌、支原体及衣原体有杀灭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耐药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与其他类别的抗菌药之间无交叉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口服吸收良好，体内分布广，组织中药物浓度高。氧氟、左氧氟、洛美和加替沙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原型肾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主要用于敏感菌所致呼吸道、泌尿生殖道、肠道、骨、关节、皮肤、软组织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胃肠反应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N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、光敏反应、软骨损害、心脏毒性、跟腱炎、肝毒性、过敏反应、替马沙星综合征。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40:19Z</dcterms:modified>
  <cp:revision>111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